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E6C4-B047-48D3-81C0-4B2A2AA1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8998-E4DC-41E8-AECD-81F9EE6C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D31F-5DB6-449E-B4BC-A5B8C37B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560A-24AF-4455-9A9A-A787BD0F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77E3-30E5-48F2-98B9-CBA63DB2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3C4-7B36-4810-9324-8887A210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BF38-240A-487E-A137-539154D0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DA16-DDAE-44D1-B1FB-F59FCE22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72E8-322F-4DE0-8B31-5C194261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C057-69D4-46E2-A488-4993C56C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4EEA-2767-4A7A-A0D3-F2501650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6CFD-5372-405A-A96C-578F3B8F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2B88-76C5-42B6-8AC7-AC59550CE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533520"/>
            <a:ext cx="6400800" cy="43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POWER DISTRIBUTION COMPANY OF ANDHRA PRADESH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istribution &amp; Retail Supply Licens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ling of ARR &amp; Proposed Tarif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ail Supply Business for FY 2006-07 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ion Business for control period 2006-07 to 2008-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762120"/>
            <a:ext cx="6096240" cy="8153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83502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cember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" descr=""/>
          <p:cNvPicPr/>
          <p:nvPr/>
        </p:nvPicPr>
        <p:blipFill>
          <a:blip r:embed="rId1"/>
          <a:stretch/>
        </p:blipFill>
        <p:spPr>
          <a:xfrm>
            <a:off x="2514600" y="2324160"/>
            <a:ext cx="1600200" cy="133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1905120" y="4948200"/>
          <a:ext cx="3962160" cy="32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4948200"/>
                    <a:ext cx="396216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14:11:38Z</dcterms:created>
  <dc:creator>admin</dc:creator>
  <dc:description/>
  <dc:language>en-US</dc:language>
  <cp:lastModifiedBy>Administrator</cp:lastModifiedBy>
  <cp:lastPrinted>2000-12-29T00:19:23Z</cp:lastPrinted>
  <dcterms:modified xsi:type="dcterms:W3CDTF">2005-12-30T06:43:58Z</dcterms:modified>
  <cp:revision>39</cp:revision>
  <dc:subject/>
  <dc:title>No Slide Title</dc:title>
</cp:coreProperties>
</file>